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77.jpeg" ContentType="image/jpeg"/>
  <Override PartName="/ppt/media/image68.jpeg" ContentType="image/jpeg"/>
  <Override PartName="/ppt/media/image31.png" ContentType="image/png"/>
  <Override PartName="/ppt/media/image2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67.jpeg" ContentType="image/jpeg"/>
  <Override PartName="/ppt/media/image58.png" ContentType="image/png"/>
  <Override PartName="/ppt/media/image11.png" ContentType="image/png"/>
  <Override PartName="/ppt/media/image48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80.jpeg" ContentType="image/jpeg"/>
  <Override PartName="/ppt/media/image1.png" ContentType="image/png"/>
  <Override PartName="/ppt/media/image13.png" ContentType="image/png"/>
  <Override PartName="/ppt/media/image78.jpeg" ContentType="image/jpeg"/>
  <Override PartName="/ppt/media/image36.png" ContentType="image/png"/>
  <Override PartName="/ppt/media/image25.png" ContentType="image/png"/>
  <Override PartName="/ppt/media/image62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69.jpeg" ContentType="image/jpeg"/>
  <Override PartName="/ppt/media/image73.jpeg" ContentType="image/jpeg"/>
  <Override PartName="/ppt/media/image24.png" ContentType="image/png"/>
  <Override PartName="/ppt/media/image61.png" ContentType="image/png"/>
  <Override PartName="/ppt/media/image72.jpeg" ContentType="image/jpeg"/>
  <Override PartName="/ppt/media/image14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63.jpeg" ContentType="image/jpeg"/>
  <Override PartName="/ppt/media/image29.png" ContentType="image/png"/>
  <Override PartName="/ppt/media/image19.png" ContentType="image/png"/>
  <Override PartName="/ppt/media/image79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F61-A0A4-4E73-9D9D-DBD919FF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C6D-4BE8-41C3-8C08-7996F467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5B7-0CCA-4AD1-A7A8-1165DF1E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6D9-33EF-43B4-BBF4-259BC4E2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E2A-D88E-43DF-A2C7-26FD6ECE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F62-3813-4BDD-9AA3-A545B957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C4B-DB1C-48FE-9BDC-79626EB8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15C-6297-4AF1-9324-712171CA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238-BE24-47E9-A253-63E60796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8B6-84BB-4F27-A5B8-8AF56860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176-532F-4633-8335-85CB2155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21B-4D0A-4B87-8DDB-3F6EB561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D6BB-39AE-4B65-A9D0-52251CEDA9A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image" Target="../media/image80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11640" y="4149720"/>
            <a:ext cx="3887640" cy="2306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75614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174160" cy="486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8186760" cy="486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31640" y="431640"/>
            <a:ext cx="8186760" cy="486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6360" y="576360"/>
            <a:ext cx="8173800" cy="486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20720" y="720720"/>
            <a:ext cx="8186760" cy="486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863640" y="863640"/>
            <a:ext cx="8172360" cy="486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6021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me distortion  (max &gt; -40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ssement bande passante + disto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tes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/10 :           6 ; 24 ;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9/10 :             1 ; 9 ; 16 ;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/10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7/10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2 ; 4 ; 14 ; 22 ; 25 ;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/10 :            18 ; 8 ; 10 ; 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5/10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11 ; 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4/10 :            12 ; 15 ;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/10 :            26 ;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/10 :            5 ;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/10 :            3 ; 19 ;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797360" cy="3597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7164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° 10 = Tamura taken as a reference for excellent square wa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4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0kHz square wave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7280" y="287280"/>
            <a:ext cx="6946920" cy="521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6946920" cy="5210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76360" y="576360"/>
            <a:ext cx="6946920" cy="5209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20720" y="720720"/>
            <a:ext cx="6946920" cy="5210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885080" y="189000"/>
            <a:ext cx="100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60930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y good square wa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451640" cy="5589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7452000" cy="5589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6360" y="576360"/>
            <a:ext cx="7451640" cy="558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20720" y="72072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8360" y="333360"/>
            <a:ext cx="50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64911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ood square wa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826920" y="907920"/>
            <a:ext cx="743616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948360" cy="5211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6948720" cy="5212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76360" y="576360"/>
            <a:ext cx="6948360" cy="521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20720" y="720720"/>
            <a:ext cx="6948360" cy="5211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63640" y="863640"/>
            <a:ext cx="6948360" cy="521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008000" y="1008000"/>
            <a:ext cx="6948720" cy="5211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152360" y="1152360"/>
            <a:ext cx="6948720" cy="5212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172360" y="260280"/>
            <a:ext cx="720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6308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d square wa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1258920" y="1341360"/>
            <a:ext cx="6945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 1 : 15 ; 25 ; 26 ;  8 ; 10 ; 14 ;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 2 : 5 ; 9 ; 13 ; 19 ;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 3 : 2 ; 4 ; 6 ; 12 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 mesurements performed with a reference level of 2volts RMS on 8 oh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 = 0,5 w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725720" cy="288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4726080" cy="288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92360" y="1197000"/>
            <a:ext cx="4721040" cy="2878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484360" y="1844640"/>
            <a:ext cx="4726080" cy="28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132000" y="2492280"/>
            <a:ext cx="4726080" cy="288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708360" y="3141720"/>
            <a:ext cx="4678560" cy="2851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356000" y="3789360"/>
            <a:ext cx="4678560" cy="2851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5516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y extended fla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392720" cy="2676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4392720" cy="2676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340000" y="2133720"/>
            <a:ext cx="4392720" cy="267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de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348000" y="3068640"/>
            <a:ext cx="4392720" cy="2676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284720" y="3933720"/>
            <a:ext cx="439416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29400" cy="29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4829400" cy="29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403280" y="981000"/>
            <a:ext cx="4829400" cy="2943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908000" y="1557360"/>
            <a:ext cx="4829400" cy="294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4829400" cy="29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564000" y="3213000"/>
            <a:ext cx="4829040" cy="2943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5516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s extende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4067280" y="3716280"/>
            <a:ext cx="48290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248000" cy="2589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4248360" cy="258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979640" y="1700280"/>
            <a:ext cx="4248000" cy="2589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771640" y="2492280"/>
            <a:ext cx="4256280" cy="258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564000" y="3284640"/>
            <a:ext cx="4248000" cy="2589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551664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hort response in the low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4427640" y="4149720"/>
            <a:ext cx="42465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829040" cy="2943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4829040" cy="2943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4829040" cy="294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411280" y="2205000"/>
            <a:ext cx="4829400" cy="294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132000" y="2924280"/>
            <a:ext cx="4829400" cy="2943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5516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hor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31640" y="43164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76360" y="576360"/>
            <a:ext cx="7596000" cy="451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20720" y="72072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863640" y="863640"/>
            <a:ext cx="7596000" cy="451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1008000" y="100800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1152360" y="115236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1295280" y="129528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1440000" y="1440000"/>
            <a:ext cx="7583400" cy="451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1584360" y="1584360"/>
            <a:ext cx="7596000" cy="4510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2"/>
          <a:stretch/>
        </p:blipFill>
        <p:spPr>
          <a:xfrm>
            <a:off x="1728720" y="1728720"/>
            <a:ext cx="7596360" cy="4510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6021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y low distortion  (max &lt;-50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402680" cy="4402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7413840" cy="4402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31640" y="431640"/>
            <a:ext cx="7413840" cy="4402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76360" y="576360"/>
            <a:ext cx="7413480" cy="440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20720" y="720720"/>
            <a:ext cx="7402680" cy="4402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63640" y="863640"/>
            <a:ext cx="7413480" cy="440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008000" y="1008000"/>
            <a:ext cx="7402680" cy="4402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1152360" y="1152360"/>
            <a:ext cx="7402680" cy="4402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1295280" y="1295280"/>
            <a:ext cx="7402680" cy="4402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1440000" y="1440000"/>
            <a:ext cx="7402320" cy="4402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>
            <a:off x="1584360" y="1584360"/>
            <a:ext cx="7402320" cy="4402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2"/>
          <a:stretch/>
        </p:blipFill>
        <p:spPr>
          <a:xfrm>
            <a:off x="1728720" y="1728720"/>
            <a:ext cx="7415280" cy="4402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6021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w distortion  (-50&lt; max &lt;-40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22:28:05Z</dcterms:created>
  <dc:creator>JMLC</dc:creator>
  <dc:description/>
  <dc:language>en-US</dc:language>
  <cp:lastModifiedBy>Yves</cp:lastModifiedBy>
  <dcterms:modified xsi:type="dcterms:W3CDTF">2009-12-05T21:46:13Z</dcterms:modified>
  <cp:revision>16</cp:revision>
  <dc:subject/>
  <dc:title>Diapositive 1</dc:title>
</cp:coreProperties>
</file>