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76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64.jpeg" ContentType="image/jpeg"/>
  <Override PartName="/ppt/media/image9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77.jpeg" ContentType="image/jpeg"/>
  <Override PartName="/ppt/media/image68.jpeg" ContentType="image/jpeg"/>
  <Override PartName="/ppt/media/image31.png" ContentType="image/png"/>
  <Override PartName="/ppt/media/image2.jpeg" ContentType="image/jpeg"/>
  <Override PartName="/ppt/media/image20.png" ContentType="image/png"/>
  <Override PartName="/ppt/media/image57.png" ContentType="image/png"/>
  <Override PartName="/ppt/media/image21.png" ContentType="image/png"/>
  <Override PartName="/ppt/media/image67.jpeg" ContentType="image/jpeg"/>
  <Override PartName="/ppt/media/image58.png" ContentType="image/png"/>
  <Override PartName="/ppt/media/image11.png" ContentType="image/png"/>
  <Override PartName="/ppt/media/image48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80.jpeg" ContentType="image/jpeg"/>
  <Override PartName="/ppt/media/image1.png" ContentType="image/png"/>
  <Override PartName="/ppt/media/image13.png" ContentType="image/png"/>
  <Override PartName="/ppt/media/image78.jpeg" ContentType="image/jpeg"/>
  <Override PartName="/ppt/media/image36.png" ContentType="image/png"/>
  <Override PartName="/ppt/media/image25.png" ContentType="image/png"/>
  <Override PartName="/ppt/media/image62.png" ContentType="image/png"/>
  <Override PartName="/ppt/media/image71.jpeg" ContentType="image/jpeg"/>
  <Override PartName="/ppt/media/image70.jpeg" ContentType="image/jpeg"/>
  <Override PartName="/ppt/media/image35.png" ContentType="image/png"/>
  <Override PartName="/ppt/media/image69.jpeg" ContentType="image/jpeg"/>
  <Override PartName="/ppt/media/image73.jpeg" ContentType="image/jpeg"/>
  <Override PartName="/ppt/media/image24.png" ContentType="image/png"/>
  <Override PartName="/ppt/media/image61.png" ContentType="image/png"/>
  <Override PartName="/ppt/media/image72.jpeg" ContentType="image/jpeg"/>
  <Override PartName="/ppt/media/image14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2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74.jpeg" ContentType="image/jpeg"/>
  <Override PartName="/ppt/media/image28.png" ContentType="image/png"/>
  <Override PartName="/ppt/media/image5.png" ContentType="image/png"/>
  <Override PartName="/ppt/media/image17.png" ContentType="image/png"/>
  <Override PartName="/ppt/media/image10.png" ContentType="image/png"/>
  <Override PartName="/ppt/media/image47.png" ContentType="image/png"/>
  <Override PartName="/ppt/media/image63.jpeg" ContentType="image/jpeg"/>
  <Override PartName="/ppt/media/image29.png" ContentType="image/png"/>
  <Override PartName="/ppt/media/image19.png" ContentType="image/png"/>
  <Override PartName="/ppt/media/image79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FF5F-F90A-4A09-AE7D-2114EC83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7D7-A147-4EF6-B5E0-07A34189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BF2-D4B8-412B-BAD3-58A7B4EE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62EC-4261-42C5-AD39-AE077B20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D802-320A-41D4-B9CE-3C71B54F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AD85-AA8F-4B8F-BFC1-34AC79D2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4C4-94B0-49F8-87B3-0736E959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BF9-BDCB-449C-B229-F4D25214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492-C49A-45A5-9520-29964D7D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8DD-2BD6-40A3-B834-7F6AA3ED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AFFF-B2FE-4C95-9E05-8B0E4763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3FF-07C2-42F5-9C5A-F5D82C59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AD99-1579-4845-A1E5-9D7CA59490A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image" Target="../media/image78.jpeg"/><Relationship Id="rId7" Type="http://schemas.openxmlformats.org/officeDocument/2006/relationships/image" Target="../media/image79.jpeg"/><Relationship Id="rId8" Type="http://schemas.openxmlformats.org/officeDocument/2006/relationships/image" Target="../media/image80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211640" y="4149720"/>
            <a:ext cx="3887640" cy="2306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75614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174160" cy="486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87280" y="287280"/>
            <a:ext cx="8186760" cy="486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31640" y="431640"/>
            <a:ext cx="8186760" cy="486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76360" y="576360"/>
            <a:ext cx="8173800" cy="4860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720720" y="720720"/>
            <a:ext cx="8186760" cy="4861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863640" y="863640"/>
            <a:ext cx="8172360" cy="4860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6021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me distortion  (max &gt; -40d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assement bande passante + disto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tes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0/10 :           6 ; 24 ;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9/10 :             1 ; 9 ; 16 ;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8/10 :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   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7/10 :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    2 ; 4 ; 14 ; 22 ; 25 ;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6/10 :            18 ; 8 ; 10 ; 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5/10 :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   11 ; 2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4/10 :            12 ; 15 ;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3/10 :            26 ;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/10 :            5 ;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/10 :            3 ; 19 ;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797360" cy="3597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71640" y="5661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° 10 = Tamura taken as a reference for excellent square wave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404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0kHz square wave t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87280" y="287280"/>
            <a:ext cx="6946920" cy="5210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6946920" cy="5210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76360" y="576360"/>
            <a:ext cx="6946920" cy="5209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720720" y="720720"/>
            <a:ext cx="6946920" cy="5210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885080" y="189000"/>
            <a:ext cx="1008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609300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ery good square wave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451640" cy="5589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7452000" cy="5589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76360" y="576360"/>
            <a:ext cx="7451640" cy="558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20720" y="72072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388360" y="333360"/>
            <a:ext cx="504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84360" y="64911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ood square wave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826920" y="907920"/>
            <a:ext cx="7436160" cy="55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948360" cy="5211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6948720" cy="5212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76360" y="576360"/>
            <a:ext cx="6948360" cy="5211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720720" y="720720"/>
            <a:ext cx="6948360" cy="5211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863640" y="863640"/>
            <a:ext cx="6948360" cy="5211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008000" y="1008000"/>
            <a:ext cx="6948720" cy="5211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152360" y="1152360"/>
            <a:ext cx="6948720" cy="5212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172360" y="260280"/>
            <a:ext cx="7207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11280" y="630864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ad square wave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1258920" y="1341360"/>
            <a:ext cx="694512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y 1 : 15 ; 25 ; 26 ;  8 ; 10 ; 14 ;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y 2 : 5 ; 9 ; 13 ; 19 ;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y 3 : 2 ; 4 ; 6 ; 12 ;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 mesurements performed with a reference level of 2volts RMS on 8 oh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 = 0,5 w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725720" cy="288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4726080" cy="2881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692360" y="1197000"/>
            <a:ext cx="4721040" cy="2878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484360" y="1844640"/>
            <a:ext cx="4726080" cy="287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132000" y="2492280"/>
            <a:ext cx="4726080" cy="2881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708360" y="3141720"/>
            <a:ext cx="4678560" cy="2851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356000" y="3789360"/>
            <a:ext cx="4678560" cy="2851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5516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ery extended fla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392720" cy="2676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03280" y="1197000"/>
            <a:ext cx="4392720" cy="2676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340000" y="2133720"/>
            <a:ext cx="4392720" cy="267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24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ended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348000" y="3068640"/>
            <a:ext cx="4392720" cy="2676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284720" y="3933720"/>
            <a:ext cx="439416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829400" cy="29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4829400" cy="29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403280" y="981000"/>
            <a:ext cx="4829400" cy="2943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908000" y="1557360"/>
            <a:ext cx="4829400" cy="294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411280" y="2060640"/>
            <a:ext cx="4829400" cy="294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3564000" y="3213000"/>
            <a:ext cx="4829040" cy="2943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5516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s extended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4067280" y="3716280"/>
            <a:ext cx="48290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248000" cy="2589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87280" y="907920"/>
            <a:ext cx="4248360" cy="2589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979640" y="1700280"/>
            <a:ext cx="4248000" cy="2589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771640" y="2492280"/>
            <a:ext cx="4256280" cy="2589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564000" y="3284640"/>
            <a:ext cx="4248000" cy="2589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4000" y="5516640"/>
            <a:ext cx="24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hort response in the low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4427640" y="4149720"/>
            <a:ext cx="424656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829040" cy="2943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4829040" cy="2943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835280" y="1484280"/>
            <a:ext cx="4829040" cy="294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411280" y="2205000"/>
            <a:ext cx="4829400" cy="2943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3132000" y="2924280"/>
            <a:ext cx="4829400" cy="2943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4000" y="5516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hor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7596360" cy="4510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87280" y="287280"/>
            <a:ext cx="7596360" cy="4510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31640" y="431640"/>
            <a:ext cx="7596360" cy="4510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76360" y="576360"/>
            <a:ext cx="7596000" cy="4510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720720" y="720720"/>
            <a:ext cx="7596360" cy="4510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863640" y="863640"/>
            <a:ext cx="7596000" cy="4510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1008000" y="1008000"/>
            <a:ext cx="7596360" cy="4510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1152360" y="1152360"/>
            <a:ext cx="7596360" cy="4510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1295280" y="1295280"/>
            <a:ext cx="7596360" cy="4510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0"/>
          <a:stretch/>
        </p:blipFill>
        <p:spPr>
          <a:xfrm>
            <a:off x="1440000" y="1440000"/>
            <a:ext cx="7583400" cy="4510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1"/>
          <a:stretch/>
        </p:blipFill>
        <p:spPr>
          <a:xfrm>
            <a:off x="1584360" y="1584360"/>
            <a:ext cx="7596000" cy="4510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2"/>
          <a:stretch/>
        </p:blipFill>
        <p:spPr>
          <a:xfrm>
            <a:off x="1728720" y="1728720"/>
            <a:ext cx="7596360" cy="4510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9280" y="6021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ery low distortion  (max &lt;-50d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7402680" cy="4402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87280" y="287280"/>
            <a:ext cx="7413840" cy="4402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31640" y="431640"/>
            <a:ext cx="7413840" cy="4402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76360" y="576360"/>
            <a:ext cx="7413480" cy="4402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20720" y="720720"/>
            <a:ext cx="7402680" cy="4402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863640" y="863640"/>
            <a:ext cx="7413480" cy="4402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008000" y="1008000"/>
            <a:ext cx="7402680" cy="4402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1152360" y="1152360"/>
            <a:ext cx="7402680" cy="4402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1295280" y="1295280"/>
            <a:ext cx="7402680" cy="4402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1440000" y="1440000"/>
            <a:ext cx="7402320" cy="4402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1"/>
          <a:stretch/>
        </p:blipFill>
        <p:spPr>
          <a:xfrm>
            <a:off x="1584360" y="1584360"/>
            <a:ext cx="7402320" cy="4402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2"/>
          <a:stretch/>
        </p:blipFill>
        <p:spPr>
          <a:xfrm>
            <a:off x="1728720" y="1728720"/>
            <a:ext cx="7415280" cy="4402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6021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w distortion  (-50&lt; max &lt;-40d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22:28:05Z</dcterms:created>
  <dc:creator>JMLC</dc:creator>
  <dc:description/>
  <dc:language>en-US</dc:language>
  <cp:lastModifiedBy>Yves</cp:lastModifiedBy>
  <dcterms:modified xsi:type="dcterms:W3CDTF">2009-12-05T21:46:13Z</dcterms:modified>
  <cp:revision>16</cp:revision>
  <dc:subject/>
  <dc:title>Diapositive 1</dc:title>
</cp:coreProperties>
</file>